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17.gif" ContentType="image/gif"/>
  <Override PartName="/ppt/media/image2.wmf" ContentType="image/x-wmf"/>
  <Override PartName="/ppt/media/image16.jpeg" ContentType="image/jpeg"/>
  <Override PartName="/ppt/media/image14.jpeg" ContentType="image/jpeg"/>
  <Override PartName="/ppt/media/image9.jpeg" ContentType="image/jpeg"/>
  <Override PartName="/ppt/media/image1.gif" ContentType="image/gif"/>
  <Override PartName="/ppt/media/image3.gif" ContentType="image/gif"/>
  <Override PartName="/ppt/media/image6.wmf" ContentType="image/x-wmf"/>
  <Override PartName="/ppt/media/image11.wmf" ContentType="image/x-wmf"/>
  <Override PartName="/ppt/media/image15.wmf" ContentType="image/x-wmf"/>
  <Override PartName="/ppt/media/image7.png" ContentType="image/png"/>
  <Override PartName="/ppt/media/image4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ED582-294E-473B-929B-F72B770099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87E10-3841-44C8-83C7-A440F6C490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15D49-4348-44DB-BB27-D63540ED92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72FF6-B368-4F98-94F4-2F26F5705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FA264-C4A4-4317-B886-A726AD43FC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98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8D30F-8C44-4C12-A4C7-754D21A8A8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75CCD-A665-4462-BE3F-FA0D05E5F5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2760"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D12FB-8629-4F31-8017-00D7A023BA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81480" y="1015524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6813A-C947-4482-8ED8-D3DD4083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9520" y="801720"/>
            <a:ext cx="5343840" cy="40068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4200" y="5078520"/>
            <a:ext cx="60530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Add numb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2EFE-E0EB-489D-840A-C2CD8ED614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94525-D549-4FD0-9C31-40BF4850E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18C08-C562-444E-A2B7-8F36802F6C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281480" y="10155240"/>
            <a:ext cx="327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F186C-B2A8-4532-BEC6-2BF9AC7886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4200" y="5078520"/>
            <a:ext cx="60530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icrosoft YaHei"/>
              </a:rPr>
              <a:t>Volunteers to do the points drill apres. Get three or fou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C1113-91BD-46A5-9909-49B4F93E67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801720"/>
            <a:ext cx="53467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98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EEB-F714-4E76-A6DA-A6469A79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139-EC13-4796-B58A-A39AC69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7AA-6CF9-43EE-BFAF-23E3A0BD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A2B1-35EA-43EF-952C-085B3C89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3A3-F999-44CA-AD48-71689DEC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10F-613D-4044-9D35-F266D292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3CC-BF90-4789-B030-816BFFD0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48A-F753-464D-A9BA-8008BB21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990-28ED-4D64-980B-E2C282C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7191-429E-4F4F-B768-5653558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59A-BF04-4F8D-8054-C4A5147A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412-005C-4C10-994C-B7430713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1A0CB-8142-44B4-ADD4-345B5979D3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gif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wmf"/><Relationship Id="rId13" Type="http://schemas.openxmlformats.org/officeDocument/2006/relationships/image" Target="../media/image14.jpeg"/><Relationship Id="rId14" Type="http://schemas.openxmlformats.org/officeDocument/2006/relationships/image" Target="../media/image15.wmf"/><Relationship Id="rId15" Type="http://schemas.openxmlformats.org/officeDocument/2006/relationships/image" Target="../media/image16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8.gif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9.jpeg"/><Relationship Id="rId6" Type="http://schemas.openxmlformats.org/officeDocument/2006/relationships/image" Target="../media/image11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0" y="525600"/>
            <a:ext cx="108345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80"/>
                </a:solidFill>
                <a:latin typeface="Comic Sans MS"/>
                <a:ea typeface="Arial"/>
              </a:rPr>
              <a:t>Est-ce que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je </a:t>
            </a:r>
            <a:r>
              <a:rPr b="1" lang="en-GB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peux</a:t>
            </a:r>
            <a:r>
              <a:rPr b="1" lang="en-GB" sz="3600" spc="-1" strike="noStrike">
                <a:solidFill>
                  <a:srgbClr val="00b050"/>
                </a:solidFill>
                <a:latin typeface="Comic Sans MS"/>
                <a:ea typeface="Arial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  <a:ea typeface="Arial"/>
              </a:rPr>
              <a:t>m</a:t>
            </a: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’asseoi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? Maca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80"/>
                </a:solidFill>
                <a:latin typeface="Comic Sans MS"/>
                <a:ea typeface="Arial"/>
              </a:rPr>
              <a:t>Est-ce que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je </a:t>
            </a:r>
            <a:r>
              <a:rPr b="1" lang="en-GB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peu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  <a:ea typeface="Arial"/>
              </a:rPr>
              <a:t>m</a:t>
            </a: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’asseoi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? Maca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800080"/>
                </a:solidFill>
                <a:latin typeface="Comic Sans MS"/>
                <a:ea typeface="Arial"/>
              </a:rPr>
              <a:t>Est-ce que 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je </a:t>
            </a:r>
            <a:r>
              <a:rPr b="1" lang="en-GB" sz="3600" spc="-1" strike="noStrike">
                <a:solidFill>
                  <a:srgbClr val="00cc00"/>
                </a:solidFill>
                <a:latin typeface="Comic Sans MS"/>
                <a:ea typeface="Arial"/>
              </a:rPr>
              <a:t>peux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  <a:ea typeface="Arial"/>
              </a:rPr>
              <a:t>m</a:t>
            </a:r>
            <a:r>
              <a:rPr b="1" lang="en-GB" sz="3600" spc="-1" strike="noStrike">
                <a:solidFill>
                  <a:srgbClr val="009900"/>
                </a:solidFill>
                <a:latin typeface="Comic Sans MS"/>
                <a:ea typeface="Arial"/>
              </a:rPr>
              <a:t>’asseoir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? Macar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Eh Macaren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559640" y="3071880"/>
            <a:ext cx="2519280" cy="2519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236520" y="5354640"/>
            <a:ext cx="4410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arce que je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  <a:ea typeface="Arial"/>
              </a:rPr>
              <a:t>su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4619520" y="3948120"/>
            <a:ext cx="267804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lligent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013360" y="4503600"/>
            <a:ext cx="36360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5375160" y="3948120"/>
            <a:ext cx="82080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/>
          <a:srcRect l="17383" t="29894" r="21799" b="1521"/>
          <a:stretch/>
        </p:blipFill>
        <p:spPr>
          <a:xfrm>
            <a:off x="4956120" y="6383160"/>
            <a:ext cx="425520" cy="41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5"/>
          <a:stretch/>
        </p:blipFill>
        <p:spPr>
          <a:xfrm>
            <a:off x="5627520" y="4956120"/>
            <a:ext cx="416160" cy="527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6"/>
          <a:stretch/>
        </p:blipFill>
        <p:spPr>
          <a:xfrm>
            <a:off x="4956120" y="5880240"/>
            <a:ext cx="728640" cy="4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129600" y="0"/>
            <a:ext cx="21042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4800" spc="-1" strike="noStrike">
                <a:solidFill>
                  <a:srgbClr val="000000"/>
                </a:solidFill>
                <a:latin typeface="Comic Sans MS"/>
              </a:rPr>
              <a:t>a v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40120" y="330372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va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100240" y="195408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va très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945440" y="4653000"/>
            <a:ext cx="32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comme ci comme 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042280" y="5843520"/>
            <a:ext cx="16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ç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 va 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icture 6"/>
          <p:cNvSpPr/>
          <p:nvPr/>
        </p:nvSpPr>
        <p:spPr>
          <a:xfrm>
            <a:off x="833400" y="1795320"/>
            <a:ext cx="944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833400" y="3144960"/>
            <a:ext cx="944640" cy="94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2"/>
          <a:stretch/>
        </p:blipFill>
        <p:spPr>
          <a:xfrm>
            <a:off x="833400" y="5684760"/>
            <a:ext cx="944640" cy="944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833400" y="4414680"/>
            <a:ext cx="944640" cy="9446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6972480" y="0"/>
            <a:ext cx="310824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t to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Et vous Mad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200480" y="2940120"/>
            <a:ext cx="2603520" cy="11912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arce que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je </a:t>
            </a:r>
            <a:r>
              <a:rPr b="1" lang="en-US" sz="3600" spc="-1" strike="noStrike">
                <a:solidFill>
                  <a:srgbClr val="009900"/>
                </a:solidFill>
                <a:latin typeface="Comic Sans MS"/>
              </a:rPr>
              <a:t>sui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4"/>
          <a:stretch/>
        </p:blipFill>
        <p:spPr>
          <a:xfrm>
            <a:off x="5964120" y="33660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3"/>
          <p:cNvSpPr/>
          <p:nvPr/>
        </p:nvSpPr>
        <p:spPr>
          <a:xfrm>
            <a:off x="3108240" y="1008000"/>
            <a:ext cx="2687760" cy="7034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Pourquo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4" descr=""/>
          <p:cNvPicPr/>
          <p:nvPr/>
        </p:nvPicPr>
        <p:blipFill>
          <a:blip r:embed="rId5"/>
          <a:stretch/>
        </p:blipFill>
        <p:spPr>
          <a:xfrm>
            <a:off x="3611520" y="252360"/>
            <a:ext cx="924120" cy="757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6"/>
          <a:stretch/>
        </p:blipFill>
        <p:spPr>
          <a:xfrm>
            <a:off x="4535640" y="0"/>
            <a:ext cx="541080" cy="541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6972480" y="1847880"/>
            <a:ext cx="2728800" cy="2653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  <a:ea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intelligent(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  <a:ea typeface="Arial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6972480" y="4703760"/>
            <a:ext cx="2771640" cy="180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im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US" sz="2800" spc="-1" strike="noStrike">
                <a:solidFill>
                  <a:srgbClr val="cc0099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l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8" descr=""/>
          <p:cNvPicPr/>
          <p:nvPr/>
        </p:nvPicPr>
        <p:blipFill>
          <a:blip r:embed="rId7"/>
          <a:stretch/>
        </p:blipFill>
        <p:spPr>
          <a:xfrm>
            <a:off x="7223040" y="4703760"/>
            <a:ext cx="588960" cy="58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"/>
          <p:cNvPicPr/>
          <p:nvPr/>
        </p:nvPicPr>
        <p:blipFill>
          <a:blip r:embed="rId8"/>
          <a:srcRect l="17384" t="29894" r="21801" b="1521"/>
          <a:stretch/>
        </p:blipFill>
        <p:spPr>
          <a:xfrm>
            <a:off x="7980480" y="3940200"/>
            <a:ext cx="425160" cy="41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0" descr=""/>
          <p:cNvPicPr/>
          <p:nvPr/>
        </p:nvPicPr>
        <p:blipFill>
          <a:blip r:embed="rId9"/>
          <a:stretch/>
        </p:blipFill>
        <p:spPr>
          <a:xfrm>
            <a:off x="7223040" y="2016000"/>
            <a:ext cx="420840" cy="279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1" descr=""/>
          <p:cNvPicPr/>
          <p:nvPr/>
        </p:nvPicPr>
        <p:blipFill>
          <a:blip r:embed="rId10"/>
          <a:stretch/>
        </p:blipFill>
        <p:spPr>
          <a:xfrm>
            <a:off x="7475400" y="3359160"/>
            <a:ext cx="416160" cy="52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2" descr=""/>
          <p:cNvPicPr/>
          <p:nvPr/>
        </p:nvPicPr>
        <p:blipFill>
          <a:blip r:embed="rId11"/>
          <a:stretch/>
        </p:blipFill>
        <p:spPr>
          <a:xfrm>
            <a:off x="7475400" y="6215040"/>
            <a:ext cx="416160" cy="58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3" descr=""/>
          <p:cNvPicPr/>
          <p:nvPr/>
        </p:nvPicPr>
        <p:blipFill>
          <a:blip r:embed="rId12"/>
          <a:stretch/>
        </p:blipFill>
        <p:spPr>
          <a:xfrm>
            <a:off x="7391520" y="5711760"/>
            <a:ext cx="728640" cy="49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4" descr=""/>
          <p:cNvPicPr/>
          <p:nvPr/>
        </p:nvPicPr>
        <p:blipFill>
          <a:blip r:embed="rId13"/>
          <a:stretch/>
        </p:blipFill>
        <p:spPr>
          <a:xfrm>
            <a:off x="7140600" y="2855880"/>
            <a:ext cx="3636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14"/>
          <a:stretch/>
        </p:blipFill>
        <p:spPr>
          <a:xfrm>
            <a:off x="7728120" y="2351160"/>
            <a:ext cx="820440" cy="500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6" descr=""/>
          <p:cNvPicPr/>
          <p:nvPr/>
        </p:nvPicPr>
        <p:blipFill>
          <a:blip r:embed="rId15"/>
          <a:stretch/>
        </p:blipFill>
        <p:spPr>
          <a:xfrm>
            <a:off x="7223040" y="5292720"/>
            <a:ext cx="363600" cy="3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755640" y="2347920"/>
            <a:ext cx="8567640" cy="16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511280" y="4284720"/>
            <a:ext cx="7056360" cy="19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52360"/>
            <a:ext cx="1008072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5300" spc="-1" strike="noStrike">
                <a:solidFill>
                  <a:srgbClr val="660066"/>
                </a:solidFill>
                <a:latin typeface="Comic Sans MS"/>
              </a:rPr>
              <a:t>Est-ce que</a:t>
            </a:r>
            <a:r>
              <a:rPr b="1" lang="fr-FR" sz="53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1" lang="fr-FR" sz="5300" spc="-1" strike="noStrike">
                <a:solidFill>
                  <a:srgbClr val="009900"/>
                </a:solidFill>
                <a:latin typeface="Comic Sans MS"/>
              </a:rPr>
              <a:t>peux</a:t>
            </a:r>
            <a:r>
              <a:rPr b="1" lang="fr-FR" sz="53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fr-FR" sz="5300" spc="-1" strike="noStrike">
                <a:solidFill>
                  <a:srgbClr val="003300"/>
                </a:solidFill>
                <a:latin typeface="Comic Sans MS"/>
              </a:rPr>
              <a:t>faire</a:t>
            </a:r>
            <a:r>
              <a:rPr b="1" lang="fr-FR" sz="5300" spc="-1" strike="noStrike">
                <a:solidFill>
                  <a:srgbClr val="00cc00"/>
                </a:solidFill>
                <a:latin typeface="Comic Sans MS"/>
              </a:rPr>
              <a:t> </a:t>
            </a:r>
            <a:r>
              <a:rPr b="1" lang="fr-FR" sz="5300" spc="-1" strike="noStrike">
                <a:solidFill>
                  <a:srgbClr val="000000"/>
                </a:solidFill>
                <a:latin typeface="Comic Sans MS"/>
              </a:rPr>
              <a:t>les points</a:t>
            </a:r>
            <a:r>
              <a:rPr b="1" lang="fr-FR" sz="5300" spc="-1" strike="noStrike">
                <a:solidFill>
                  <a:srgbClr val="660066"/>
                </a:solidFill>
                <a:latin typeface="Comic Sans MS"/>
              </a:rPr>
              <a:t>?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695760" y="2268360"/>
            <a:ext cx="2352600" cy="15566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mainten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ce que  je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su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8120" y="1932120"/>
            <a:ext cx="3192480" cy="2512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3611520" y="4451400"/>
            <a:ext cx="2532240" cy="5205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aprè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(Lott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611520" y="4989600"/>
            <a:ext cx="2532240" cy="94716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arce que je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sui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635880" y="2351160"/>
            <a:ext cx="267804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lligent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7029360" y="2908440"/>
            <a:ext cx="363600" cy="502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3"/>
          <a:stretch/>
        </p:blipFill>
        <p:spPr>
          <a:xfrm>
            <a:off x="7391520" y="2351160"/>
            <a:ext cx="82044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4"/>
          <a:srcRect l="17383" t="29894" r="21799" b="1521"/>
          <a:stretch/>
        </p:blipFill>
        <p:spPr>
          <a:xfrm>
            <a:off x="6972480" y="4788000"/>
            <a:ext cx="425160" cy="41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5"/>
          <a:stretch/>
        </p:blipFill>
        <p:spPr>
          <a:xfrm>
            <a:off x="7643880" y="3359160"/>
            <a:ext cx="415800" cy="527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6"/>
          <a:stretch/>
        </p:blipFill>
        <p:spPr>
          <a:xfrm>
            <a:off x="6972480" y="4284720"/>
            <a:ext cx="728640" cy="4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"/>
          <p:cNvPicPr/>
          <p:nvPr/>
        </p:nvPicPr>
        <p:blipFill>
          <a:blip r:embed="rId7"/>
          <a:stretch/>
        </p:blipFill>
        <p:spPr>
          <a:xfrm>
            <a:off x="587520" y="5207040"/>
            <a:ext cx="1344600" cy="110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"/>
          <p:cNvPicPr/>
          <p:nvPr/>
        </p:nvPicPr>
        <p:blipFill>
          <a:blip r:embed="rId8"/>
          <a:stretch/>
        </p:blipFill>
        <p:spPr>
          <a:xfrm>
            <a:off x="1008000" y="4535640"/>
            <a:ext cx="541440" cy="5410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6"/>
          <p:cNvSpPr/>
          <p:nvPr/>
        </p:nvSpPr>
        <p:spPr>
          <a:xfrm>
            <a:off x="0" y="6383160"/>
            <a:ext cx="2687760" cy="70344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Comic Sans MS"/>
              </a:rPr>
              <a:t>Pourquo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0" y="0"/>
            <a:ext cx="10080720" cy="1983240"/>
          </a:xfrm>
          <a:prstGeom prst="rect">
            <a:avLst/>
          </a:prstGeom>
          <a:solidFill>
            <a:srgbClr val="ffff99"/>
          </a:solidFill>
          <a:ln cap="sq"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200" spc="-1" strike="noStrike">
                <a:solidFill>
                  <a:srgbClr val="800080"/>
                </a:solidFill>
                <a:latin typeface="Comic Sans MS"/>
              </a:rPr>
              <a:t>Est-ce que</a:t>
            </a:r>
            <a:r>
              <a:rPr b="0" lang="en-GB" sz="6200" spc="-1" strike="noStrike">
                <a:solidFill>
                  <a:srgbClr val="000000"/>
                </a:solidFill>
                <a:latin typeface="Comic Sans MS"/>
              </a:rPr>
              <a:t> je </a:t>
            </a:r>
            <a:r>
              <a:rPr b="0" lang="en-GB" sz="6200" spc="-1" strike="noStrike">
                <a:solidFill>
                  <a:srgbClr val="33cc33"/>
                </a:solidFill>
                <a:latin typeface="Comic Sans MS"/>
              </a:rPr>
              <a:t>peux</a:t>
            </a:r>
            <a:r>
              <a:rPr b="0" lang="en-GB" sz="6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6200" spc="-1" strike="noStrike">
                <a:solidFill>
                  <a:srgbClr val="008000"/>
                </a:solidFill>
                <a:latin typeface="Comic Sans MS"/>
              </a:rPr>
              <a:t>faire</a:t>
            </a:r>
            <a:r>
              <a:rPr b="0" lang="en-GB" sz="6200" spc="-1" strike="noStrike">
                <a:solidFill>
                  <a:srgbClr val="000000"/>
                </a:solidFill>
                <a:latin typeface="Comic Sans MS"/>
              </a:rPr>
              <a:t> am stram gram</a:t>
            </a:r>
            <a:r>
              <a:rPr b="0" lang="en-GB" sz="6200" spc="-1" strike="noStrike">
                <a:solidFill>
                  <a:srgbClr val="800080"/>
                </a:solidFill>
                <a:latin typeface="Comic Sans MS"/>
              </a:rPr>
              <a:t>?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550800" y="2063880"/>
            <a:ext cx="5197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Am Stram 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Pic et P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Et col et 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Bour et B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Et Ra Ta T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0066"/>
                </a:solidFill>
                <a:latin typeface="Comic Sans MS"/>
              </a:rPr>
              <a:t>Am Stram Gram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8820000" y="1008000"/>
            <a:ext cx="1071720" cy="1071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5040360" y="3065400"/>
            <a:ext cx="4410000" cy="5814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arce que je </a:t>
            </a:r>
            <a:r>
              <a:rPr b="1" lang="en-US" sz="3200" spc="-1" strike="noStrike">
                <a:solidFill>
                  <a:srgbClr val="009900"/>
                </a:solidFill>
                <a:latin typeface="Comic Sans MS"/>
                <a:ea typeface="Arial"/>
              </a:rPr>
              <a:t>su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719760" y="3863880"/>
            <a:ext cx="267840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nt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za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tigué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musant(</a:t>
            </a:r>
            <a:r>
              <a:rPr b="1" lang="en-US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telligent(</a:t>
            </a:r>
            <a:r>
              <a:rPr b="1" lang="en-GB" sz="2800" spc="-1" strike="noStrike">
                <a:solidFill>
                  <a:srgbClr val="cc0066"/>
                </a:solidFill>
                <a:latin typeface="Comic Sans MS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7391520" y="67197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3"/>
          <a:stretch/>
        </p:blipFill>
        <p:spPr>
          <a:xfrm>
            <a:off x="7113600" y="4421160"/>
            <a:ext cx="36360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4"/>
          <a:stretch/>
        </p:blipFill>
        <p:spPr>
          <a:xfrm>
            <a:off x="7475400" y="3863880"/>
            <a:ext cx="820800" cy="500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5"/>
          <a:srcRect l="17384" t="29894" r="21801" b="1521"/>
          <a:stretch/>
        </p:blipFill>
        <p:spPr>
          <a:xfrm>
            <a:off x="7056360" y="6300720"/>
            <a:ext cx="425520" cy="412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6"/>
          <a:stretch/>
        </p:blipFill>
        <p:spPr>
          <a:xfrm>
            <a:off x="7728120" y="4871880"/>
            <a:ext cx="415800" cy="527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7"/>
          <a:stretch/>
        </p:blipFill>
        <p:spPr>
          <a:xfrm>
            <a:off x="7056360" y="5796000"/>
            <a:ext cx="728640" cy="4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omini Stone</dc:creator>
  <dc:description/>
  <dc:language>en-US</dc:language>
  <cp:lastModifiedBy>Salmon, Davina</cp:lastModifiedBy>
  <dcterms:modified xsi:type="dcterms:W3CDTF">2014-01-03T12:52:35Z</dcterms:modified>
  <cp:revision>1</cp:revision>
  <dc:subject/>
  <dc:title>PowerPoint Presentation</dc:title>
</cp:coreProperties>
</file>